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36C75A-32AC-4339-A1CE-B804B6E1F8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BD406B-8C5B-4C17-ADB6-7F9A361A77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E3A0C2-971F-466E-9804-71C73FC0E7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444751-BEE0-4E72-80AC-7012C952A1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9787A7-8BCD-4BF3-ADF8-FEF41A258B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D31D62-B1A4-4941-A671-969659344C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F95DB5-284D-4A28-96C3-E22AD293EF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CD2318-32B6-4C4F-92D5-8D388C7360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09708D-8E2B-422C-9664-9E50E162BA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A96CD4-D2D7-492B-A1CE-CF8BBECE40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E02E7B-8B03-4B5C-9C5B-4EF8EADB3D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F2B00C-A491-4F67-A448-B81EFB7E67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EA3FBC-5B93-4F17-9471-AB264AF703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28A744-C321-49DC-85A8-7FFEB9991D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4C4C0A-F2ED-4293-A3A1-7509D48441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282877-ED41-43FB-AF83-425794A0FD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7B1AAA-614F-4030-9BC0-D578BFAE42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8243B8-ED8F-4C2B-9042-04EB35EF1B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B34711-58B4-4743-9D8B-A127FA18E3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28964E-57C9-43B0-8DEF-63EC544CAF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FC8E57-3669-4E67-8824-889716C63E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9F312-A191-44E2-9A7D-7560DE3B70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2BE8E-47BE-4AAC-92FF-41D74388E9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10182-0A32-482F-B537-805B136EDD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94BB2-9C69-46E5-96F4-84124C0BF43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3D7C1-B3BE-4C8C-B293-47CF9AFDA97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00cc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2120"/>
            <a:ext cx="7620120" cy="2209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Le 14. Juillet</a:t>
            </a:r>
            <a:endParaRPr b="0" lang="en-US" sz="4400" spc="-1" strike="noStrike">
              <a:solidFill>
                <a:srgbClr val="e5ffff"/>
              </a:solidFill>
              <a:latin typeface="Tahoma"/>
            </a:endParaRPr>
          </a:p>
        </p:txBody>
      </p:sp>
      <p:pic>
        <p:nvPicPr>
          <p:cNvPr id="83" name="" descr=""/>
          <p:cNvPicPr/>
          <p:nvPr/>
        </p:nvPicPr>
        <p:blipFill>
          <a:blip r:embed="rId2"/>
          <a:stretch/>
        </p:blipFill>
        <p:spPr>
          <a:xfrm>
            <a:off x="1828800" y="3657600"/>
            <a:ext cx="5695920" cy="2895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e5ffff"/>
                </a:solidFill>
                <a:latin typeface="Tahoma"/>
              </a:rPr>
              <a:t>Interview sur le 14 Juillet</a:t>
            </a:r>
            <a:endParaRPr b="0" lang="en-US" sz="4400" spc="-1" strike="noStrike">
              <a:solidFill>
                <a:srgbClr val="e5ffff"/>
              </a:solidFill>
              <a:latin typeface="Tahoma"/>
            </a:endParaRPr>
          </a:p>
        </p:txBody>
      </p:sp>
      <p:sp>
        <p:nvSpPr>
          <p:cNvPr id="85"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Bonjour , pourriez-vous nous dire quelque-chose sur vous?</a:t>
            </a:r>
            <a:endParaRPr b="0" lang="en-US" sz="1600" spc="-1" strike="noStrike">
              <a:solidFill>
                <a:srgbClr val="ffffff"/>
              </a:solidFill>
              <a:latin typeface="Tahoma"/>
            </a:endParaRPr>
          </a:p>
          <a:p>
            <a:pPr marL="339480" indent="-3394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Bonjour, je m'appelle Jonathan, je suis enseignant-formateur a l'Institut Francais de Bucarest. Je travaille en Roumanie depuis cinq ans. J'ai un femme et un enfant. J'ai garde beaucoup d'amis en France avec lesquels je reste en contact grace a l'internet.</a:t>
            </a:r>
            <a:endParaRPr b="0" lang="en-US" sz="1600" spc="-1" strike="noStrike">
              <a:solidFill>
                <a:srgbClr val="ffffff"/>
              </a:solidFill>
              <a:latin typeface="Tahoma"/>
            </a:endParaRPr>
          </a:p>
          <a:p>
            <a:pPr marL="339480" indent="-3394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Le 14. julliet, est-il reste important pour vous?</a:t>
            </a:r>
            <a:endParaRPr b="0" lang="en-US" sz="1600" spc="-1" strike="noStrike">
              <a:solidFill>
                <a:srgbClr val="ffffff"/>
              </a:solidFill>
              <a:latin typeface="Tahoma"/>
            </a:endParaRPr>
          </a:p>
          <a:p>
            <a:pPr marL="339480" indent="-3394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Oui,bien sur,c'est un symbole pour l'histoire de la France qui signifie beaucoup pour moi et pour beaucoup de francais.</a:t>
            </a:r>
            <a:endParaRPr b="0" lang="en-US" sz="1600" spc="-1" strike="noStrike">
              <a:solidFill>
                <a:srgbClr val="ffffff"/>
              </a:solidFill>
              <a:latin typeface="Tahoma"/>
            </a:endParaRPr>
          </a:p>
          <a:p>
            <a:pPr marL="339480" indent="-3394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Comment est-ce que vous celebrez le 14 Juillet dans la Roumanie?Est-ce que quelque chose a change pour vous depuis que vous etes arrive dans la Roumanie?</a:t>
            </a:r>
            <a:endParaRPr b="0" lang="en-US" sz="1600" spc="-1" strike="noStrike">
              <a:solidFill>
                <a:srgbClr val="ffffff"/>
              </a:solidFill>
              <a:latin typeface="Tahoma"/>
            </a:endParaRPr>
          </a:p>
          <a:p>
            <a:pPr marL="339480" indent="-3394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Quand j'etais en France, c'etait surtout l'occasion de rencontrer mes amis et des regarder le feu d'artifice.Moi et ma famille nous ne regardons pas la parade militaire mais beaucoup de francais adorent ca. Aujourd'hui a Bucarest, c'est l'opportunite de retrouver la communaute francophone a la fete organisee par l'ambassade de France. Nous dansons, nous mangeons, participons aux activites proposees par les organisateurs et nous retrouvons un peu nos racines.</a:t>
            </a:r>
            <a:endParaRPr b="0" lang="en-US" sz="1600" spc="-1" strike="noStrike">
              <a:solidFill>
                <a:srgbClr val="ffffff"/>
              </a:solidFill>
              <a:latin typeface="Tahoma"/>
            </a:endParaRPr>
          </a:p>
          <a:p>
            <a:pPr marL="339480" indent="-3394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Merci beaucoup pour l'interview monsier Jonathan!</a:t>
            </a:r>
            <a:endParaRPr b="0" lang="en-US" sz="1600" spc="-1" strike="noStrike">
              <a:solidFill>
                <a:srgbClr val="ffffff"/>
              </a:solidFill>
              <a:latin typeface="Tahoma"/>
            </a:endParaRPr>
          </a:p>
          <a:p>
            <a:pPr marL="339480" indent="-3394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C'est moi qui vous remercie!</a:t>
            </a:r>
            <a:endParaRPr b="0" lang="en-US" sz="16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e5ffff"/>
                </a:solidFill>
                <a:latin typeface="Tahoma"/>
              </a:rPr>
              <a:t>Instauration comme fête nationale</a:t>
            </a:r>
            <a:endParaRPr b="0" lang="en-US" sz="4000" spc="-1" strike="noStrike">
              <a:solidFill>
                <a:srgbClr val="e5ffff"/>
              </a:solidFill>
              <a:latin typeface="Tahoma"/>
            </a:endParaRPr>
          </a:p>
        </p:txBody>
      </p:sp>
      <p:sp>
        <p:nvSpPr>
          <p:cNvPr id="87" name="PlaceHolder 2"/>
          <p:cNvSpPr>
            <a:spLocks noGrp="1"/>
          </p:cNvSpPr>
          <p:nvPr>
            <p:ph/>
          </p:nvPr>
        </p:nvSpPr>
        <p:spPr>
          <a:xfrm>
            <a:off x="457200" y="1981080"/>
            <a:ext cx="8229600" cy="1981440"/>
          </a:xfrm>
          <a:prstGeom prst="rect">
            <a:avLst/>
          </a:prstGeom>
          <a:noFill/>
          <a:ln w="0">
            <a:noFill/>
          </a:ln>
        </p:spPr>
        <p:txBody>
          <a:bodyPr lIns="90000" rIns="90000" tIns="46800" bIns="46800" anchor="t">
            <a:normAutofit/>
          </a:bodyPr>
          <a:p>
            <a:pPr marL="343080" indent="-3430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ahoma"/>
              </a:rPr>
              <a:t>En 1879, la IIIe République naissante cherche une date pour servir de support à une fête nationale et républicaine. Après que d'autres dates eurent été envisagées, le député Benjamin Raspail dépose le 21 mai 1881 une proposition de loi tendant à adopter le 14 juillet comme jour de fête nationale annuelle. Si le 14 juillet 1789 (prise de la Bastille) est jugé par certains parlementaires comme une journée trop sanglante, la Fête de la Fédération du 14 juillet 1790, elle, permet d'atteindre un consensus1. Cette date « à double acception  »6 permet d'unir tous les républicains.</a:t>
            </a:r>
            <a:endParaRPr b="0" lang="en-US" sz="1400" spc="-1" strike="noStrike">
              <a:solidFill>
                <a:srgbClr val="ffffff"/>
              </a:solidFill>
              <a:latin typeface="Tahoma"/>
            </a:endParaRPr>
          </a:p>
          <a:p>
            <a:pPr marL="343080" indent="-343080">
              <a:lnSpc>
                <a:spcPct val="80000"/>
              </a:lnSpc>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ahoma"/>
              </a:rPr>
              <a:t>La loi, signée par 64 députés, est adoptée par l'Assemblée le 8 juin et par le Sénat le 29 juin. Elle est promulguée le 6 juillet 1881 et précise simplement que « La République adopte le 14 juillet comme jour de fête nationale annuelle »1, sans indiquer d'année de référence.</a:t>
            </a:r>
            <a:endParaRPr b="0" lang="en-US" sz="1400" spc="-1" strike="noStrike">
              <a:solidFill>
                <a:srgbClr val="ffffff"/>
              </a:solidFill>
              <a:latin typeface="Tahoma"/>
            </a:endParaRPr>
          </a:p>
        </p:txBody>
      </p:sp>
      <p:pic>
        <p:nvPicPr>
          <p:cNvPr id="88" name="" descr=""/>
          <p:cNvPicPr/>
          <p:nvPr/>
        </p:nvPicPr>
        <p:blipFill>
          <a:blip r:embed="rId2"/>
          <a:stretch/>
        </p:blipFill>
        <p:spPr>
          <a:xfrm>
            <a:off x="762120" y="3809880"/>
            <a:ext cx="7619760" cy="2743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0" name="PlaceHolder 2"/>
          <p:cNvSpPr>
            <a:spLocks noGrp="1"/>
          </p:cNvSpPr>
          <p:nvPr>
            <p:ph/>
          </p:nvPr>
        </p:nvSpPr>
        <p:spPr>
          <a:xfrm>
            <a:off x="457200" y="1981080"/>
            <a:ext cx="8229600" cy="1981440"/>
          </a:xfrm>
          <a:prstGeom prst="rect">
            <a:avLst/>
          </a:prstGeom>
          <a:noFill/>
          <a:ln w="0">
            <a:noFill/>
          </a:ln>
        </p:spPr>
        <p:txBody>
          <a:bodyPr lIns="90000" rIns="90000" tIns="46800" bIns="46800" anchor="t">
            <a:normAutofit/>
          </a:bodyPr>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La lecture du rapport de séance du Sénat du 29 juin 18807 établissant cette fête nationale éclaire le débat sous-jacent portant sur laquelle de ces deux dates est commémorée le 14 juillet :</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 M. le rapporteur (Henri Martin) : - Il y a eu ensuite, au 14 juillet 1789, il y a eu du sang versé, quelques actes déplorables ; mais, hélas ! dans tous les grands événements de l’histoire, les progrès ont été jusqu’ici achetés par bien des douleurs, par bien du sang. Espérons qu’il n’en sera plus ainsi dans l’avenir (« très bien » à gauche, interruptions à droite).</a:t>
            </a:r>
            <a:endParaRPr b="0" lang="en-US" sz="1600" spc="-1" strike="noStrike">
              <a:solidFill>
                <a:srgbClr val="ffffff"/>
              </a:solidFill>
              <a:latin typeface="Tahoma"/>
            </a:endParaRPr>
          </a:p>
          <a:p>
            <a:pPr marL="343080" indent="-343080">
              <a:lnSpc>
                <a:spcPct val="80000"/>
              </a:lnSpc>
              <a:spcBef>
                <a:spcPts val="4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ahoma"/>
              </a:rPr>
              <a:t>À droite : - Oui, espérons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91" name="" descr=""/>
          <p:cNvPicPr/>
          <p:nvPr/>
        </p:nvPicPr>
        <p:blipFill>
          <a:blip r:embed="rId2"/>
          <a:stretch/>
        </p:blipFill>
        <p:spPr>
          <a:xfrm>
            <a:off x="2057400" y="4191120"/>
            <a:ext cx="4857840" cy="2286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3" name="PlaceHolder 2"/>
          <p:cNvSpPr>
            <a:spLocks noGrp="1"/>
          </p:cNvSpPr>
          <p:nvPr>
            <p:ph/>
          </p:nvPr>
        </p:nvSpPr>
        <p:spPr>
          <a:xfrm>
            <a:off x="457200" y="1980720"/>
            <a:ext cx="8229600" cy="2133720"/>
          </a:xfrm>
          <a:prstGeom prst="rect">
            <a:avLst/>
          </a:prstGeom>
          <a:noFill/>
          <a:ln w="0">
            <a:noFill/>
          </a:ln>
        </p:spPr>
        <p:txBody>
          <a:bodyPr lIns="90000" rIns="90000" tIns="46800" bIns="46800" anchor="t">
            <a:normAutofit/>
          </a:bodyPr>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ahoma"/>
              </a:rPr>
              <a:t>M. Hervé de Saisy : - Nous n’en sommes pas bien sûrs !</a:t>
            </a:r>
            <a:endParaRPr b="0" lang="en-US" sz="12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ahoma"/>
              </a:rPr>
              <a:t>M. le rapporteur : - Nous avons le droit de l’espérer. Mais n’oubliez pas que, derrière ce 14 juillet, où la victoire de l’ère nouvelle sur l’ancien régime fut achetée par une lutte armée, n’oubliez pas qu’après la journée du 14 juillet 1789 il y a eu la journée du 14 juillet 1790 (« très-bien ! » à gauche).</a:t>
            </a:r>
            <a:endParaRPr b="0" lang="en-US" sz="1200" spc="-1" strike="noStrike">
              <a:solidFill>
                <a:srgbClr val="ffffff"/>
              </a:solidFill>
              <a:latin typeface="Tahoma"/>
            </a:endParaRPr>
          </a:p>
          <a:p>
            <a:pPr marL="343080" indent="-343080">
              <a:lnSpc>
                <a:spcPct val="80000"/>
              </a:lnSpc>
              <a:spcBef>
                <a:spcPts val="3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Tahoma"/>
              </a:rPr>
              <a:t>Cette journée-là, vous ne lui reprocherez pas d’avoir versé une goutte de sang, d’avoir jeté la division à un degré quelconque dans le pays, Elle a été la consécration de l’unité de la France. Oui, elle a consacré ce que l’ancienne royauté avait préparé. L’ancienne royauté avait fait pour ainsi dire le corps de la France, et nous ne l’avons pas oublié ; la Révolution, ce jour-là, le 14 juillet 1790, a fait, je ne veux pas dire l’âme de la France – personne que Dieu n’a fait l’âme de la France – mais la Révolution a donné à la France conscience d’elle-même (« très-bien ! » sur les mêmes bancs) ; elle a révélé à elle-même l’âme de la France. »</a:t>
            </a:r>
            <a:endParaRPr b="0" lang="en-US" sz="1200" spc="-1" strike="noStrike">
              <a:solidFill>
                <a:srgbClr val="ffffff"/>
              </a:solidFill>
              <a:latin typeface="Tahom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pic>
        <p:nvPicPr>
          <p:cNvPr id="94" name="" descr=""/>
          <p:cNvPicPr/>
          <p:nvPr/>
        </p:nvPicPr>
        <p:blipFill>
          <a:blip r:embed="rId2"/>
          <a:stretch/>
        </p:blipFill>
        <p:spPr>
          <a:xfrm>
            <a:off x="1828800" y="3886200"/>
            <a:ext cx="5562720" cy="24382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Un peu plus loin, le rapport du Sénat, préalable à l'adoption de la proposition de loi, fait également référence au 14 juillet 1790 :</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 Mais, à ceux de nos collègues que des souvenirs tragiques feraient hésiter, rappelons que le 14 juillet 1789, ce 14 juillet qui vit prendre la Bastille, fut suivi d’un autre 14 juillet, celui de 1790, qui consacra le premier par l’adhésion de la France entière, d’après l’initiative de Bordeaux et de la Bretagne. Cette seconde journée du 14 juillet, qui n’a coûté ni une goutte de sang ni une larme, cette journée de la Grande Fédération, nous espérons qu’aucun de vous ne refusera de se joindre à nous pour la renouveler et la perpétuer, comme le symbole de l’union fraternelle de toutes les parties de la France et de tous les citoyens français dans la liberté et l’égalité. Le 14 juillet 1790 est le plus beau jour de l’histoire de France, et peut-être de toute l’histoire. C’est en ce jour qu’a été enfin accomplie l’unité nationale, préparée par les efforts de tant de générations et de tant de grands hommes, auxquels la postérité garde un souvenir reconnaissant. Fédération, ce jour-là, a signifié unité volontaire.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1T18:31:29Z</dcterms:created>
  <dc:creator>a</dc:creator>
  <dc:description/>
  <dc:language>en-US</dc:language>
  <cp:lastModifiedBy>a</cp:lastModifiedBy>
  <dcterms:modified xsi:type="dcterms:W3CDTF">2012-05-01T18:45:36Z</dcterms:modified>
  <cp:revision>2</cp:revision>
  <dc:subject/>
  <dc:title>Le 14. Juillet</dc:title>
</cp:coreProperties>
</file>